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7.png" ContentType="image/png"/>
  <Override PartName="/ppt/media/image5.pct" ContentType="image/x-pict"/>
  <Override PartName="/ppt/media/image8.png" ContentType="image/png"/>
  <Override PartName="/ppt/media/image6.pct" ContentType="image/x-pict"/>
  <Override PartName="/ppt/media/image9.pct" ContentType="image/x-pict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8C9-B851-436E-BF3F-A06C6D01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AD8-46CE-4FD3-83F6-152D34B5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CB4-0A63-43A4-8EF6-5490A930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CB0-C961-4472-809D-0C8B9782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733E-6D17-4057-B70C-FA23C3E2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E364-3AB6-47C7-B41D-451B6659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29E0-ADD5-4F7C-979F-03064FBA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36DB-03D5-4C1D-A8C2-F4BD93A5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A6EE-2060-4E5E-B114-DB931730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A29B-21C9-4A0D-92C5-9BE1D775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7A70-A5C6-40B9-95B1-04A193FC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13B-1A44-47B1-9911-38E86107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EDAD-E9BE-48DF-A4D9-983C45C5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7C2D-B113-40AB-B2C5-B8560767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9261-2E53-468A-A11B-24145166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5BAD-C723-4C5B-B7EC-A9147AE0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62EE-73D7-4E20-B87F-6F13D982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7CB-033D-4E3D-A3E9-E53D9372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FD9-E8C6-457D-9ECA-D3D30EC8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E7A-29F6-40FF-8C33-0C268FFB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B98-C8BC-4CEE-BD8E-8BC312D9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7044-55B7-4DD4-A019-36FEE5A0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3E5-5EC5-4DA6-9BB8-07222B6D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88CA-D094-4A76-865D-EFAB0C18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DC3A-7640-46BD-AD46-6A2C0931F9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B04A-5598-4E36-B43B-13E8EC39EA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m: What were the major accomplishments of the Scientific Revolution?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0000"/>
                </a:solidFill>
                <a:uFillTx/>
                <a:latin typeface="Arial"/>
              </a:rPr>
              <a:t>Do Now:  Complete this Regents question of the 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rs of the Enlightenment were primarily interest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relationship between people and their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the divine right the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debating the role of the church in socie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romoting increased power for European monarc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8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crosc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ed by Antonie van Leeuwenhoek in the mid 160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s the first to see bacter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ro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ed by Evangelista Torricelli in the 164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to study and predict the wea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ed by Daniel Gabriel Fahrenheit in the early 170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also developed the scale in which we measure temperature (still used in the US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ngelista Torricell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ed the barometer in the  164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to study and predict the wea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285120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ed by Antonie van Leeuwenhoek in the mid 160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s the first to see bac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2819520"/>
            <a:ext cx="2425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iel Gabriel Fahrenhe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ed by the thermometer in the early 170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also developed the scale in which we measure temperature (still used in the US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Scientific Revolution Awards Activ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one of the following with you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poster of the Scientific Awards and rank your groups top 3 scientists.  Be sure to explain why each was ranked where they we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 your groups top 3 choices for the Scientific awards and create your winners circle. Each person will give a short acceptance speech explaining why they are proud to have won the awar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444680"/>
            <a:ext cx="2666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Bold Italic"/>
              </a:rPr>
              <a:t>Create your own review shee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the following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lightenm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ocen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cen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ne righ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the Enlightenment philosophers and their belief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Locke, Hobbes, Voltaire, Montesquieu, Beccaria, Rousseau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examples of Absolute monarch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Louis XIV, Peter I, Catherine the Great and Queen Elizabet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examples of Scientific achiev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:  How did the Age of Revolutions change European though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:  What were the major inventions of the Scientific Revolutio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o Now: Copy your vocabulary in your glossary of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centric- theory of the Earth centered 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ocentric-theory of the Sun centered 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ism:  a government with 1 ruler with total p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lightenment- a time period in history where there was a change in outlook of many educated Europ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Contract- an agreement in which people give up certain powers in return for the benefit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Rights- rights that belong to people simple because they are human beings. (LL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ew view of the Uni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Copernicu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- was the first to develop the heliocentric theory of the universe.  He used math and scientific observations to prove his theor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2679480" cy="3708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38098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annes Kep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0’s improved on Copernicus’ theory.  He determined that the orbits (paths) of the planets were ovals not circles.  Wrote specific laws that outlined the Heliocentric the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3708360"/>
            <a:ext cx="2540160" cy="314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ile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228600" y="533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ed a powerful telescop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 put on trial by the church and charged with heresy.  Found guilty and forced to swear that the geocentric theory was tr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4818240"/>
            <a:ext cx="312444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5486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iscovery: Grav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aac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ed the Law of Gra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also is well known for his 3 laws of mo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2517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ientific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scientific re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used today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92640" y="1914480"/>
            <a:ext cx="39513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23:41:26Z</dcterms:created>
  <dc:creator>Jennifer</dc:creator>
  <dc:description/>
  <dc:language>en-US</dc:language>
  <cp:lastModifiedBy>NYCDOE</cp:lastModifiedBy>
  <dcterms:modified xsi:type="dcterms:W3CDTF">2011-11-10T13:07:36Z</dcterms:modified>
  <cp:revision>20</cp:revision>
  <dc:subject/>
  <dc:title>EQ:  How did the Age of Revolutions change European thought? FQ:  What were the major inventions of the Scientific Revolution? L22(Unit3intro)</dc:title>
</cp:coreProperties>
</file>